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991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239760"/>
            <a:ext cx="76359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991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239760"/>
            <a:ext cx="76359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991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6840" y="239760"/>
            <a:ext cx="76359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8991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2114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8991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39760"/>
            <a:ext cx="76359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991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14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991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 Bold"/>
              </a:rPr>
              <a:t>Click to edit the title text format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5000"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878787"/>
              </a:solidFill>
              <a:latin typeface="Calibri Bold"/>
            </a:endParaRPr>
          </a:p>
          <a:p>
            <a:pPr lvl="1" marL="230400" algn="ctr">
              <a:spcBef>
                <a:spcPts val="601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878787"/>
              </a:solidFill>
              <a:latin typeface="Calibri Bold"/>
            </a:endParaRPr>
          </a:p>
          <a:p>
            <a:pPr lvl="2" marL="481680" algn="ctr">
              <a:spcBef>
                <a:spcPts val="601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878787"/>
              </a:solidFill>
              <a:latin typeface="Calibri Bold"/>
            </a:endParaRPr>
          </a:p>
          <a:p>
            <a:pPr lvl="3" marL="733320" algn="ctr">
              <a:spcBef>
                <a:spcPts val="601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878787"/>
              </a:solidFill>
              <a:latin typeface="Calibri Bold"/>
            </a:endParaRPr>
          </a:p>
          <a:p>
            <a:pPr lvl="4" marL="984600" algn="ctr">
              <a:spcBef>
                <a:spcPts val="601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878787"/>
              </a:solidFill>
              <a:latin typeface="Calibri Bold"/>
            </a:endParaRPr>
          </a:p>
          <a:p>
            <a:pPr lvl="5" marL="984600" algn="ctr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878787"/>
              </a:solidFill>
              <a:latin typeface="Calibri Bold"/>
            </a:endParaRPr>
          </a:p>
          <a:p>
            <a:pPr lvl="6" marL="984600" algn="ctr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8787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878787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 Bold"/>
              </a:rPr>
              <a:t>Click to edit the title text format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114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04880" indent="-285840">
              <a:spcBef>
                <a:spcPts val="601"/>
              </a:spcBef>
              <a:buClr>
                <a:srgbClr val="00009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2" marL="1104840" indent="-228600">
              <a:spcBef>
                <a:spcPts val="601"/>
              </a:spcBef>
              <a:buClr>
                <a:srgbClr val="00009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3" marL="1562040" indent="-228600">
              <a:spcBef>
                <a:spcPts val="601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4" marL="2019240" indent="-228600">
              <a:spcBef>
                <a:spcPts val="601"/>
              </a:spcBef>
              <a:buClr>
                <a:srgbClr val="00009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5" marL="201924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6" marL="201924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 Bold"/>
              </a:rPr>
              <a:t>Click to edit the title text format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43040" indent="-285840">
              <a:spcBef>
                <a:spcPts val="499"/>
              </a:spcBef>
              <a:buClr>
                <a:srgbClr val="00009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9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90"/>
              </a:buClr>
              <a:buFont typeface="Lucida Grande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 Bold"/>
              </a:rPr>
              <a:t>Click to edit the title text format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 Bold"/>
            </a:endParaRPr>
          </a:p>
          <a:p>
            <a:pPr lvl="1" marL="743040" indent="-285840">
              <a:spcBef>
                <a:spcPts val="499"/>
              </a:spcBef>
              <a:buClr>
                <a:srgbClr val="00009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9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000090"/>
              </a:buClr>
              <a:buFont typeface="Lucida Grande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4640" y="151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Group 1: No Drag Free Subsystem</a:t>
            </a:r>
            <a:br>
              <a:rPr sz="2800"/>
            </a:br>
            <a:r>
              <a:rPr b="0" lang="en-US" sz="2000" spc="-1" strike="noStrike">
                <a:solidFill>
                  <a:srgbClr val="0070c0"/>
                </a:solidFill>
                <a:latin typeface="Calibri"/>
                <a:ea typeface="Calibri"/>
              </a:rPr>
              <a:t>(also called the Long Arm systems)</a:t>
            </a:r>
            <a:endParaRPr b="0" lang="en-US" sz="20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2603160"/>
            <a:ext cx="6400800" cy="3492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FI Response Assessment Summary</a:t>
            </a:r>
            <a:endParaRPr b="0" lang="en-US" sz="20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valuation Team:</a:t>
            </a:r>
            <a:endParaRPr b="0" lang="en-US" sz="18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att Benacquista</a:t>
            </a:r>
            <a:endParaRPr b="0" lang="en-US" sz="18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ane Larson</a:t>
            </a:r>
            <a:endParaRPr b="0" lang="en-US" sz="18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on Hellings</a:t>
            </a:r>
            <a:endParaRPr b="0" lang="en-US" sz="18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ephen Leete</a:t>
            </a:r>
            <a:endParaRPr b="0" lang="en-US" sz="18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ary Welter</a:t>
            </a:r>
            <a:endParaRPr b="0" lang="en-US" sz="18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John Ziemer</a:t>
            </a:r>
            <a:endParaRPr b="0" lang="en-US" sz="1800" spc="-1" strike="noStrike">
              <a:solidFill>
                <a:srgbClr val="878787"/>
              </a:solidFill>
              <a:latin typeface="Calibri Bold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Jeff Livas</a:t>
            </a:r>
            <a:endParaRPr b="0" lang="en-US" sz="1800" spc="-1" strike="noStrike">
              <a:solidFill>
                <a:srgbClr val="878787"/>
              </a:solidFill>
              <a:latin typeface="Calibri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831960" y="1486080"/>
            <a:ext cx="7456320" cy="5371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656240" y="5137200"/>
            <a:ext cx="441360" cy="15778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"/>
          <p:cNvSpPr/>
          <p:nvPr/>
        </p:nvSpPr>
        <p:spPr>
          <a:xfrm>
            <a:off x="5424480" y="5291280"/>
            <a:ext cx="442800" cy="10951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: EMRI Detection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57" name=""/>
          <p:cNvSpPr/>
          <p:nvPr/>
        </p:nvSpPr>
        <p:spPr>
          <a:xfrm>
            <a:off x="123480" y="1082520"/>
            <a:ext cx="301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N. Cornish/Science Task For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"/>
          <p:cNvSpPr/>
          <p:nvPr/>
        </p:nvSpPr>
        <p:spPr>
          <a:xfrm>
            <a:off x="3141720" y="3865680"/>
            <a:ext cx="441360" cy="28540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91960" y="660240"/>
            <a:ext cx="8552160" cy="6604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: 10/10 Binary Black Hole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69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90520" y="1477800"/>
            <a:ext cx="6739200" cy="5380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: Discovery Space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79" name=""/>
          <p:cNvSpPr/>
          <p:nvPr/>
        </p:nvSpPr>
        <p:spPr>
          <a:xfrm>
            <a:off x="4483080" y="5040360"/>
            <a:ext cx="441360" cy="15778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"/>
          <p:cNvSpPr/>
          <p:nvPr/>
        </p:nvSpPr>
        <p:spPr>
          <a:xfrm>
            <a:off x="5116680" y="5310360"/>
            <a:ext cx="442800" cy="10951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"/>
          <p:cNvSpPr/>
          <p:nvPr/>
        </p:nvSpPr>
        <p:spPr>
          <a:xfrm>
            <a:off x="123480" y="1082520"/>
            <a:ext cx="301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N. Cornish/Science Task For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"/>
          <p:cNvSpPr/>
          <p:nvPr/>
        </p:nvSpPr>
        <p:spPr>
          <a:xfrm>
            <a:off x="3195720" y="4740120"/>
            <a:ext cx="441360" cy="19497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52280" y="495360"/>
            <a:ext cx="8840880" cy="6832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 Binary WD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94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12920" y="1289160"/>
            <a:ext cx="7705440" cy="5317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: WD-WD Detection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386080"/>
            <a:ext cx="673200" cy="41749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"/>
          <p:cNvSpPr/>
          <p:nvPr/>
        </p:nvSpPr>
        <p:spPr>
          <a:xfrm>
            <a:off x="5018040" y="3084480"/>
            <a:ext cx="676440" cy="314964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"/>
          <p:cNvSpPr/>
          <p:nvPr/>
        </p:nvSpPr>
        <p:spPr>
          <a:xfrm>
            <a:off x="123480" y="1082520"/>
            <a:ext cx="301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N. Cornish/Science Task For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"/>
          <p:cNvSpPr/>
          <p:nvPr/>
        </p:nvSpPr>
        <p:spPr>
          <a:xfrm>
            <a:off x="2813040" y="1960560"/>
            <a:ext cx="673200" cy="470844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Calibri"/>
              </a:rPr>
              <a:t>Group 1 Science Assessment Summary</a:t>
            </a:r>
            <a:endParaRPr b="0" lang="en-US" sz="2800" spc="-1" strike="noStrike">
              <a:solidFill>
                <a:srgbClr val="000090"/>
              </a:solidFill>
              <a:latin typeface="Calibri Bold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72800" y="1120680"/>
            <a:ext cx="2161800" cy="1905120"/>
            <a:chOff x="172800" y="1120680"/>
            <a:chExt cx="2161800" cy="1905120"/>
          </a:xfrm>
        </p:grpSpPr>
        <p:sp>
          <p:nvSpPr>
            <p:cNvPr id="317" name=""/>
            <p:cNvSpPr/>
            <p:nvPr/>
          </p:nvSpPr>
          <p:spPr>
            <a:xfrm>
              <a:off x="1367640" y="2178000"/>
              <a:ext cx="317160" cy="8478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2800" y="1120680"/>
              <a:ext cx="2161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adal-endors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1049760" y="1553760"/>
              <a:ext cx="306360" cy="1058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320" name=""/>
          <p:cNvGraphicFramePr/>
          <p:nvPr/>
        </p:nvGraphicFramePr>
        <p:xfrm>
          <a:off x="1733400" y="1555920"/>
          <a:ext cx="6980400" cy="1677960"/>
        </p:xfrm>
        <a:graphic>
          <a:graphicData uri="http://schemas.openxmlformats.org/drawingml/2006/table">
            <a:tbl>
              <a:tblPr/>
              <a:tblGrid>
                <a:gridCol w="1645920"/>
                <a:gridCol w="1250640"/>
                <a:gridCol w="712440"/>
                <a:gridCol w="1060200"/>
                <a:gridCol w="1123560"/>
                <a:gridCol w="1187640"/>
              </a:tblGrid>
              <a:tr h="63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olk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AGRANGE/ McKenzie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AGRANGE/ McKenzie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GO-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assive BH - 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ents/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assive BH -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ents/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M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scovery Sp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GO-Hig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WD-WD Det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266760" y="3505320"/>
            <a:ext cx="859788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4160" indent="-2541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GRANGE has better overall performance for MBH, but Folkner can see highest mass systems if large seeds. (Comparable range, different mass sensitivity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4160" indent="-2541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GRANGE has better horizon distance for EMRIs, but detections are only likely for 40 cm optic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4160" indent="-2541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y space is larger for LAGRANGE, although Folkner has better low frequency performanc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4160" indent="-2541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al likelihood of stellar mass black hole detection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54160" indent="-2541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tantial improvement in DWD detection and Galaxy coverage for LAGRANGE 40 cm optics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rcRect l="2291" t="4661" r="11457" b="0"/>
          <a:stretch/>
        </p:blipFill>
        <p:spPr>
          <a:xfrm>
            <a:off x="0" y="0"/>
            <a:ext cx="788688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33360" y="1473120"/>
            <a:ext cx="864864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ellation Flex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    -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Very Sm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GMAT QO: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/L ~0.0005 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Δ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~ 0.0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 ~ 4 m/s 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-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Sm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RFI                     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/L ~0.05 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Δ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~ 0.14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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 ~ 110 m/s ) 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s. SGO-Mid:  (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L/L ~0.06  / 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Δα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 ~ 0.6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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/ 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 ~  2 m/s )         2-yea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s. SGO-High: (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L/L ~0.01  / 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Δα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 ~ 0.8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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/ 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 ~ 13 m/s )       5-yea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 Keeping Needed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    -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No – highly stable for 2 years+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-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Yes (certainly for satellite at L2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unications (perhaps should be under operations (?) 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        -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Hard for direct ops, moderate for nominal science op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 -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Moder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Distance like SGO-Mid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mal Variation due to Solar Angle –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No Vari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mal/Power Variation in Biannual Eclipse Seasons –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No Vari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nlight in Optical Path –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Not an Issu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7560" y="100080"/>
            <a:ext cx="6829560" cy="96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Group 1: Science Orbits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(Relative to SGO-High &amp; -Mid)</a:t>
            </a:r>
            <a:endParaRPr b="0" lang="en-US" sz="28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331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5511960"/>
            <a:ext cx="81662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28"/>
                </a:solidFill>
                <a:latin typeface="Arial"/>
                <a:ea typeface="Arial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better than SGO-like, </a:t>
            </a:r>
            <a:r>
              <a:rPr b="0" lang="en-US" sz="2000" spc="-1" strike="noStrike">
                <a:solidFill>
                  <a:srgbClr val="d90b00"/>
                </a:solidFill>
                <a:latin typeface="Arial"/>
                <a:ea typeface="Arial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worse, and </a:t>
            </a:r>
            <a:r>
              <a:rPr b="0" lang="en-US" sz="2000" spc="-1" strike="noStrike">
                <a:solidFill>
                  <a:srgbClr val="0044fe"/>
                </a:solidFill>
                <a:latin typeface="Arial"/>
                <a:ea typeface="Arial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simila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2291" t="4661" r="11457" b="0"/>
          <a:stretch/>
        </p:blipFill>
        <p:spPr>
          <a:xfrm>
            <a:off x="0" y="0"/>
            <a:ext cx="788688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33360" y="1473120"/>
            <a:ext cx="86486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unch Vehicle C3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      -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Sm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~ -1.7 (km/s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set up for Lunar assist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 -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Sm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~ -1.7 (km/s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if using Lunar assist to get to L2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s. SGO-Mid 0.1 (km/s)</a:t>
            </a:r>
            <a:r>
              <a:rPr b="1" lang="en-US" sz="1600" spc="-1" strike="noStrike" baseline="30000">
                <a:solidFill>
                  <a:srgbClr val="0070c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, or SCO-High: 0.3 (km/s)</a:t>
            </a:r>
            <a:r>
              <a:rPr b="1" lang="en-US" sz="1600" spc="-1" strike="noStrike" baseline="30000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ulsion Modu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     -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ar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 ~ 2000 m/s  (~ 630 after Lunar assist, ~ 1300 at target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-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Moder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~ 450 m/s  (225 to escape L2/Earth, 225 at target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s. SGO-Mid 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 ~ 130 m/s (each), or SCO-High: 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Δ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 ~ 1100 m/s (each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jectory Dur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     -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~ 3.5 years to get to 16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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ヒラギノ角ゴ ProN W6"/>
              </a:rPr>
              <a:t>                                 (assuming 4 satellite orbits get to 16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-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Moder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~ 12 to 18 months (after leaving L2)</a:t>
            </a:r>
            <a:br>
              <a:rPr sz="1600"/>
            </a:b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vs. SGO-Mid 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Τ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 ~ 18 months, or SCO-High: </a:t>
            </a:r>
            <a:r>
              <a:rPr b="0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Τ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 ~ 14 month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7560" y="100080"/>
            <a:ext cx="6829560" cy="96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  <a:ea typeface="Calibri"/>
              </a:rPr>
              <a:t>Group 1: Trajectories  –  Pros and Cons </a:t>
            </a:r>
            <a:br>
              <a:rPr sz="2500"/>
            </a:br>
            <a:r>
              <a:rPr b="0" lang="en-US" sz="2500" spc="-1" strike="noStrike">
                <a:solidFill>
                  <a:srgbClr val="0070c0"/>
                </a:solidFill>
                <a:latin typeface="Calibri"/>
                <a:ea typeface="Calibri"/>
              </a:rPr>
              <a:t>(Relative to SGO-High &amp; -Mid)</a:t>
            </a:r>
            <a:endParaRPr b="0" lang="en-US" sz="25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343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rcRect l="2291" t="4661" r="11457" b="0"/>
          <a:stretch/>
        </p:blipFill>
        <p:spPr>
          <a:xfrm>
            <a:off x="0" y="0"/>
            <a:ext cx="788688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440240" y="3645000"/>
            <a:ext cx="2452680" cy="0"/>
          </a:xfrm>
          <a:prstGeom prst="line">
            <a:avLst/>
          </a:prstGeom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"/>
          <p:cNvSpPr/>
          <p:nvPr/>
        </p:nvSpPr>
        <p:spPr>
          <a:xfrm>
            <a:off x="6885000" y="3583080"/>
            <a:ext cx="130320" cy="1188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7560" y="100080"/>
            <a:ext cx="6829560" cy="58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Group 1: Orbits</a:t>
            </a:r>
            <a:endParaRPr b="0" lang="en-US" sz="28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355" name=""/>
          <p:cNvSpPr/>
          <p:nvPr/>
        </p:nvSpPr>
        <p:spPr>
          <a:xfrm>
            <a:off x="1577880" y="1031760"/>
            <a:ext cx="5332680" cy="5345280"/>
          </a:xfrm>
          <a:prstGeom prst="ellipse">
            <a:avLst/>
          </a:prstGeom>
          <a:noFill/>
          <a:ln w="28440">
            <a:solidFill>
              <a:srgbClr val="4a7d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"/>
          <p:cNvSpPr/>
          <p:nvPr/>
        </p:nvSpPr>
        <p:spPr>
          <a:xfrm>
            <a:off x="6838920" y="3586320"/>
            <a:ext cx="131760" cy="117360"/>
          </a:xfrm>
          <a:prstGeom prst="ellipse">
            <a:avLst/>
          </a:prstGeom>
          <a:solidFill>
            <a:srgbClr val="000090"/>
          </a:solidFill>
          <a:ln w="9360">
            <a:solidFill>
              <a:srgbClr val="4a7d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"/>
          <p:cNvSpPr/>
          <p:nvPr/>
        </p:nvSpPr>
        <p:spPr>
          <a:xfrm>
            <a:off x="4189320" y="3583080"/>
            <a:ext cx="130320" cy="118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92720" y="1814040"/>
            <a:ext cx="1736640" cy="1676520"/>
          </a:xfrm>
          <a:prstGeom prst="line">
            <a:avLst/>
          </a:prstGeom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"/>
          <p:cNvSpPr/>
          <p:nvPr/>
        </p:nvSpPr>
        <p:spPr>
          <a:xfrm>
            <a:off x="6066000" y="1766880"/>
            <a:ext cx="1299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"/>
          <p:cNvSpPr/>
          <p:nvPr/>
        </p:nvSpPr>
        <p:spPr>
          <a:xfrm>
            <a:off x="1646280" y="2844720"/>
            <a:ext cx="1299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"/>
          <p:cNvSpPr/>
          <p:nvPr/>
        </p:nvSpPr>
        <p:spPr>
          <a:xfrm>
            <a:off x="5265720" y="6060960"/>
            <a:ext cx="13032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685880" y="2897280"/>
            <a:ext cx="2433600" cy="676080"/>
          </a:xfrm>
          <a:prstGeom prst="line">
            <a:avLst/>
          </a:prstGeom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"/>
          <p:cNvSpPr/>
          <p:nvPr/>
        </p:nvSpPr>
        <p:spPr>
          <a:xfrm>
            <a:off x="4309920" y="3787920"/>
            <a:ext cx="986040" cy="2338200"/>
          </a:xfrm>
          <a:prstGeom prst="line">
            <a:avLst/>
          </a:prstGeom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"/>
          <p:cNvSpPr/>
          <p:nvPr/>
        </p:nvSpPr>
        <p:spPr>
          <a:xfrm>
            <a:off x="3078000" y="1712880"/>
            <a:ext cx="13176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"/>
          <p:cNvSpPr/>
          <p:nvPr/>
        </p:nvSpPr>
        <p:spPr>
          <a:xfrm>
            <a:off x="3342600" y="1601640"/>
            <a:ext cx="1098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kner Sa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439520" y="3300480"/>
            <a:ext cx="2422440" cy="309600"/>
          </a:xfrm>
          <a:prstGeom prst="line">
            <a:avLst/>
          </a:prstGeom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/>
          <p:cNvSpPr/>
          <p:nvPr/>
        </p:nvSpPr>
        <p:spPr>
          <a:xfrm>
            <a:off x="4440240" y="3679920"/>
            <a:ext cx="2446200" cy="296640"/>
          </a:xfrm>
          <a:prstGeom prst="line">
            <a:avLst/>
          </a:prstGeom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"/>
          <p:cNvSpPr/>
          <p:nvPr/>
        </p:nvSpPr>
        <p:spPr>
          <a:xfrm>
            <a:off x="3076560" y="2019240"/>
            <a:ext cx="130320" cy="1191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"/>
          <p:cNvSpPr/>
          <p:nvPr/>
        </p:nvSpPr>
        <p:spPr>
          <a:xfrm>
            <a:off x="3353400" y="1920960"/>
            <a:ext cx="1310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Kenzie Sa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"/>
          <p:cNvSpPr/>
          <p:nvPr/>
        </p:nvSpPr>
        <p:spPr>
          <a:xfrm>
            <a:off x="3073320" y="2347920"/>
            <a:ext cx="130320" cy="119160"/>
          </a:xfrm>
          <a:prstGeom prst="ellipse">
            <a:avLst/>
          </a:prstGeom>
          <a:solidFill>
            <a:srgbClr val="000090"/>
          </a:solidFill>
          <a:ln w="9360">
            <a:solidFill>
              <a:srgbClr val="4a7d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"/>
          <p:cNvSpPr/>
          <p:nvPr/>
        </p:nvSpPr>
        <p:spPr>
          <a:xfrm>
            <a:off x="3351240" y="2239920"/>
            <a:ext cx="515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"/>
          <p:cNvSpPr/>
          <p:nvPr/>
        </p:nvSpPr>
        <p:spPr>
          <a:xfrm>
            <a:off x="6815160" y="3252960"/>
            <a:ext cx="131760" cy="1188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6826320" y="3916440"/>
            <a:ext cx="129960" cy="1191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>
            <a:off x="6251760" y="1422360"/>
            <a:ext cx="448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"/>
          <p:cNvSpPr/>
          <p:nvPr/>
        </p:nvSpPr>
        <p:spPr>
          <a:xfrm>
            <a:off x="1035720" y="2513160"/>
            <a:ext cx="550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6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"/>
          <p:cNvSpPr/>
          <p:nvPr/>
        </p:nvSpPr>
        <p:spPr>
          <a:xfrm>
            <a:off x="5477760" y="6194520"/>
            <a:ext cx="4017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6877080" y="3948120"/>
            <a:ext cx="299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6886800" y="3008160"/>
            <a:ext cx="346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"/>
          <p:cNvSpPr/>
          <p:nvPr/>
        </p:nvSpPr>
        <p:spPr>
          <a:xfrm>
            <a:off x="7169040" y="3505320"/>
            <a:ext cx="898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 / L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"/>
          <p:cNvSpPr/>
          <p:nvPr/>
        </p:nvSpPr>
        <p:spPr>
          <a:xfrm>
            <a:off x="3609000" y="3710160"/>
            <a:ext cx="394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rcRect l="2291" t="4661" r="11457" b="0"/>
          <a:stretch/>
        </p:blipFill>
        <p:spPr>
          <a:xfrm>
            <a:off x="0" y="0"/>
            <a:ext cx="788688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33360" y="1473120"/>
            <a:ext cx="864864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ther considerations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ak light phase locking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      -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adequate performance demonstrated?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1046160" indent="-169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ck (2008) reference shows performance to ~ 10 Hz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 -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trument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     -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– 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GOES space weather instruments rather than SWEPAM?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both missions. Radiometer (VIRGO-like), SWEPAM or GOES ion sensors, accelerometer (GOCE-lik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acecraf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lkn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31760" indent="-131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cKenzie  - Look for cost reduction with 4 identical spacecraf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77560" y="100080"/>
            <a:ext cx="6829560" cy="96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Group 1: Other considerations</a:t>
            </a:r>
            <a:endParaRPr b="0" lang="en-US" sz="28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392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rcRect l="2291" t="4661" r="11457" b="0"/>
          <a:stretch/>
        </p:blipFill>
        <p:spPr>
          <a:xfrm>
            <a:off x="0" y="0"/>
            <a:ext cx="78868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84760" y="1039680"/>
            <a:ext cx="1192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ummary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7560" y="100080"/>
            <a:ext cx="6829560" cy="58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Group 1: No Drag Free</a:t>
            </a:r>
            <a:endParaRPr b="0" lang="en-US" sz="2800" spc="-1" strike="noStrike">
              <a:solidFill>
                <a:srgbClr val="000090"/>
              </a:solidFill>
              <a:latin typeface="Calibri Bol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85640" y="1085760"/>
          <a:ext cx="8094600" cy="5455800"/>
        </p:xfrm>
        <a:graphic>
          <a:graphicData uri="http://schemas.openxmlformats.org/drawingml/2006/table">
            <a:tbl>
              <a:tblPr/>
              <a:tblGrid>
                <a:gridCol w="1446120"/>
                <a:gridCol w="1662120"/>
                <a:gridCol w="1662120"/>
                <a:gridCol w="1662120"/>
                <a:gridCol w="1662120"/>
              </a:tblGrid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olk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AGRANGE (McKenzie et 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nce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drag free; extension of GR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Highly accurate measure of solar luminosity/wind, s/c surface temp rq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drag-free, clever use of geome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Highly accurate measure of solar luminosity/wind, s/c surface temp rq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ree arms/6 links gets polarization inf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ew MBH's,  less sky than LISA, no EM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ome MBH's, some EMRIs at 40 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s sky than LISA, less polarization (closer to line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yload/ Instru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ree a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weak laser signal (50)-2; phase locking with required performance not demonstr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omewhat weaker laser system, opening angle, 2 types of payload, no 3rd a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pacecra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imp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mm is har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imple, comm is relatively eas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 non-identical payloa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ission desig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ng cruise phase, high doppler 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as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Requires station-keep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O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ata 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drag f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n't test spurious eff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n't test against spurious effects, but can calib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Readi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Drag F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w sen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drag f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w sen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drag Free sub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ng transfer time and associated prop cost, including substantial maneuve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o drag free sub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wo s/c ty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rcRect l="2291" t="4661" r="11457" b="0"/>
          <a:stretch/>
        </p:blipFill>
        <p:spPr>
          <a:xfrm>
            <a:off x="0" y="0"/>
            <a:ext cx="788688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77560" y="100080"/>
            <a:ext cx="6829560" cy="58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402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739800" y="1562040"/>
            <a:ext cx="7454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9920" indent="-169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GRANGE seems to have better or comparable science performance in all catego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9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0 cm telescope offers more considerably more science in all area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9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th missions are confined to the ecliptic plane and rotate with a 1 year period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9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LAGRANGE is sent forward, look for cost reduction opportunity by making payloads and spacecraft identica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9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rrent configuration looks like 2 distinct spacecraft are needed: corner and end spacecraf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9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uld be a trade study or a design ch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99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ider 20 vs 40 cm telescop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1200" y="1136520"/>
            <a:ext cx="8097840" cy="5524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1: No Drag Free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Calibri"/>
              </a:rPr>
              <a:t>Group 1 Science Assessment Summary</a:t>
            </a:r>
            <a:endParaRPr b="0" lang="en-US" sz="2800" spc="-1" strike="noStrike">
              <a:solidFill>
                <a:srgbClr val="000090"/>
              </a:solidFill>
              <a:latin typeface="Calibri Bold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10960" y="2149560"/>
            <a:ext cx="2161800" cy="1904400"/>
            <a:chOff x="210960" y="2149560"/>
            <a:chExt cx="2161800" cy="1904400"/>
          </a:xfrm>
        </p:grpSpPr>
        <p:sp>
          <p:nvSpPr>
            <p:cNvPr id="188" name=""/>
            <p:cNvSpPr/>
            <p:nvPr/>
          </p:nvSpPr>
          <p:spPr>
            <a:xfrm>
              <a:off x="1405800" y="3206520"/>
              <a:ext cx="317160" cy="84744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0960" y="2149560"/>
              <a:ext cx="2161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adal-endors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1087920" y="2582640"/>
              <a:ext cx="306360" cy="10584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1771560" y="2584440"/>
          <a:ext cx="6980400" cy="1677960"/>
        </p:xfrm>
        <a:graphic>
          <a:graphicData uri="http://schemas.openxmlformats.org/drawingml/2006/table">
            <a:tbl>
              <a:tblPr/>
              <a:tblGrid>
                <a:gridCol w="1645920"/>
                <a:gridCol w="1250640"/>
                <a:gridCol w="712440"/>
                <a:gridCol w="1060200"/>
                <a:gridCol w="1123560"/>
                <a:gridCol w="1187640"/>
              </a:tblGrid>
              <a:tr h="63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Folk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AGRANGE/ McKenzie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AGRANGE/ McKenzie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GO-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assive BH - 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ents/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assive BH -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ents/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M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scovery Sp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GO-Hig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WD-WD Det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42840" y="1239840"/>
            <a:ext cx="6559560" cy="5540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 MBHB Horizon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00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30200" y="966960"/>
            <a:ext cx="8261280" cy="5618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41200"/>
            <a:ext cx="7637400" cy="866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: Massive BH Horizon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11" name=""/>
          <p:cNvSpPr/>
          <p:nvPr/>
        </p:nvSpPr>
        <p:spPr>
          <a:xfrm>
            <a:off x="129600" y="958680"/>
            <a:ext cx="3416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om N. Cornish/Science Task For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90560" y="1282680"/>
            <a:ext cx="6885000" cy="49593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 Massive BH Detection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20" name=""/>
          <p:cNvSpPr/>
          <p:nvPr/>
        </p:nvSpPr>
        <p:spPr>
          <a:xfrm>
            <a:off x="4176720" y="4309920"/>
            <a:ext cx="574560" cy="188604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"/>
          <p:cNvSpPr/>
          <p:nvPr/>
        </p:nvSpPr>
        <p:spPr>
          <a:xfrm>
            <a:off x="4987800" y="4464000"/>
            <a:ext cx="363600" cy="16588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"/>
          <p:cNvSpPr/>
          <p:nvPr/>
        </p:nvSpPr>
        <p:spPr>
          <a:xfrm>
            <a:off x="123480" y="1082520"/>
            <a:ext cx="301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N. Cornish/Science Task For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"/>
          <p:cNvSpPr/>
          <p:nvPr/>
        </p:nvSpPr>
        <p:spPr>
          <a:xfrm>
            <a:off x="2832120" y="4024440"/>
            <a:ext cx="574560" cy="22222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905040" y="1327320"/>
            <a:ext cx="7064280" cy="5081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 Massive BH Detection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32" name=""/>
          <p:cNvSpPr/>
          <p:nvPr/>
        </p:nvSpPr>
        <p:spPr>
          <a:xfrm>
            <a:off x="4444920" y="2386080"/>
            <a:ext cx="576360" cy="39178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2890800"/>
            <a:ext cx="635040" cy="34038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"/>
          <p:cNvSpPr/>
          <p:nvPr/>
        </p:nvSpPr>
        <p:spPr>
          <a:xfrm>
            <a:off x="123480" y="1082520"/>
            <a:ext cx="3013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N. Cornish/Science Task Forc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"/>
          <p:cNvSpPr/>
          <p:nvPr/>
        </p:nvSpPr>
        <p:spPr>
          <a:xfrm>
            <a:off x="3054240" y="1960560"/>
            <a:ext cx="576360" cy="44845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2280" y="506520"/>
            <a:ext cx="8825040" cy="6819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835760" y="9540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915320" y="476280"/>
            <a:ext cx="718920" cy="630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1108080"/>
            <a:ext cx="7405560" cy="1440"/>
          </a:xfrm>
          <a:prstGeom prst="line">
            <a:avLst/>
          </a:prstGeom>
          <a:ln w="255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635960" cy="86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Calibri"/>
              </a:rPr>
              <a:t>Group 1: EMRI Horizons</a:t>
            </a:r>
            <a:endParaRPr b="0" lang="en-US" sz="3200" spc="-1" strike="noStrike">
              <a:solidFill>
                <a:srgbClr val="000090"/>
              </a:solidFill>
              <a:latin typeface="Calibri Bold"/>
            </a:endParaRPr>
          </a:p>
        </p:txBody>
      </p:sp>
      <p:sp>
        <p:nvSpPr>
          <p:cNvPr id="244" name=""/>
          <p:cNvSpPr/>
          <p:nvPr/>
        </p:nvSpPr>
        <p:spPr>
          <a:xfrm>
            <a:off x="14400" y="6588000"/>
            <a:ext cx="3378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vitational Wave Workshop Linthicum, M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"/>
          <p:cNvSpPr/>
          <p:nvPr/>
        </p:nvSpPr>
        <p:spPr>
          <a:xfrm>
            <a:off x="7834320" y="6576840"/>
            <a:ext cx="132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c 20-21 20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"/>
          <p:cNvSpPr/>
          <p:nvPr/>
        </p:nvSpPr>
        <p:spPr>
          <a:xfrm>
            <a:off x="3594240" y="6580080"/>
            <a:ext cx="4089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ntains no ITAR protected inform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Keith Kalinowski</dc:creator>
  <dc:description/>
  <dc:language>en-US</dc:language>
  <cp:lastModifiedBy/>
  <cp:revision>0</cp:revision>
  <dc:subject/>
  <dc:title>HSTP Objectives Post-SM4</dc:title>
</cp:coreProperties>
</file>